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BE31-CC6A-46F9-B8EA-F41533472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EFC-59A9-4B95-90B7-6CD037AE8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451-E437-4C65-8D52-1809778C0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95E-10FB-4DB2-84C1-E0B053B25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5A9-835B-4255-A691-9F81E078F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113-8EBA-49BF-8BED-3D5398BFF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77FB-886A-438A-AF16-32BC7FD41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DE21-56F2-4D0E-B72A-BD6B247AC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88BF-2FE9-4BBD-B1B1-44E8D4654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1DD5-3DA1-4179-8E65-D2EAF26E3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2024-A0CA-49D7-8F48-E04998C75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595B-7B58-4440-B33B-F95CC7A33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2BE8-49D4-4E56-9687-560D3649B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5D0F-726A-46A3-9275-FC6755DA4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9AE6-02A9-4734-814F-BF009624B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2BF-7A1B-4F70-B9AC-65A91530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468-1152-4608-97A2-B957D45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194-FDC7-4724-8EBA-8AE94253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497-7E17-4761-A0F7-59251779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18A-702A-4544-9CF6-E2D9F8E9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147-4906-4D31-A649-F8623449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FB7-39D9-47E9-82FF-DD1CBA6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2BD-381E-46E2-881F-1EFF485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BDC-2ABF-4597-A328-E70EF28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AF8-EFE8-4B0D-AF04-A9CB1C7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35F-A7C5-4EC3-967F-D6AF213A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2FE-F1E1-4350-8F00-5607D50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1789-DFB7-4B78-B913-67E0F4C14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0134-6D5A-400B-B706-8D1232D40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3360" y="-360"/>
            <a:ext cx="842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ps for Designing an Interdisciplinary, Integrated Unit of Study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on a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unit 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he title is the centering topic for the stu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Identify a major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 concep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erve as a suitable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conceptu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le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your stu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he conceptual lens draws thinking above the topic to the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ntegrated thinking sees the conceptual and transferable patterns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s of knowled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anging the conceptual lens changes the unit focus. For example, with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Body theme, the lens could be “Systems,” “Structure,” or   “Chang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eb the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 sub-topics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 sub-concep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udy, by  subject or area, around the concept and unit tit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-top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sted around this content planning web will be specific (e.g., “Amazon Rainforest” or “Early Americans”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-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concep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a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bitats, shelter, needs). Underline all sub-concepts around the web. These will provide the fuel for writing generaliz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rite a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unit over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gage student interest and introduce the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7082-6B6C-4FA4-934A-55DB46FF0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63200" y="2286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Scoring Gu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095880" y="1828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95880" y="2571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095880" y="337176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5880" y="428616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35120" y="2286000"/>
            <a:ext cx="272880" cy="228852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141920" y="42130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07960" y="1257480"/>
            <a:ext cx="8128080" cy="52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010280" y="34290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010280" y="2571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7010280" y="1828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010280" y="4286160"/>
            <a:ext cx="5079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7924680" y="34290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7924680" y="2514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7924680" y="1828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7924680" y="428616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894280" y="5657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6807240" y="588636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 rot="18023400">
            <a:off x="5950080" y="369360"/>
            <a:ext cx="18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Pts. or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 rot="17776800">
            <a:off x="6925680" y="62640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f-Ass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 flipH="1" rot="17826600">
            <a:off x="7662960" y="34416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cher Ass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625760" y="977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or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7823160" y="588636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533520" y="5029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>
            <a:off x="2057400" y="5029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520200" y="5067360"/>
            <a:ext cx="13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512C-9729-4747-BA11-FFDD9E9A3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Ob BT"/>
              </a:rPr>
              <a:t>Suggested Learning Exper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5800" y="1523880"/>
            <a:ext cx="466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889520" y="387360"/>
            <a:ext cx="1523880" cy="576360"/>
          </a:xfrm>
          <a:prstGeom prst="leftRightArrow">
            <a:avLst>
              <a:gd name="adj1" fmla="val 50000"/>
              <a:gd name="adj2" fmla="val 52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85800" y="152280"/>
            <a:ext cx="4191120" cy="838440"/>
          </a:xfrm>
          <a:prstGeom prst="horizontalScroll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466400">
            <a:off x="6533640" y="-6480"/>
            <a:ext cx="381240" cy="13827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 rot="1466400">
            <a:off x="7314840" y="228240"/>
            <a:ext cx="380880" cy="11253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 rot="1466400">
            <a:off x="8153280" y="228600"/>
            <a:ext cx="381240" cy="10764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8502480" y="624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 rot="17637000">
            <a:off x="5988600" y="522000"/>
            <a:ext cx="13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ur. Und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 rot="17653800">
            <a:off x="7123320" y="610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 rot="17614200">
            <a:off x="7812000" y="6228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ey Sk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6019920" y="1371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8580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7772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60199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861048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8"/>
          <p:cNvSpPr/>
          <p:nvPr/>
        </p:nvSpPr>
        <p:spPr>
          <a:xfrm>
            <a:off x="6019920" y="6324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6019920" y="1905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0"/>
          <p:cNvSpPr/>
          <p:nvPr/>
        </p:nvSpPr>
        <p:spPr>
          <a:xfrm>
            <a:off x="6019920" y="25909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6019920" y="3352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6019920" y="4038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6019920" y="4800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6019920" y="54864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 rot="10200">
            <a:off x="4938480" y="483840"/>
            <a:ext cx="14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6292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845172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EBA-FDD8-4F0E-B6F5-0CB921B7B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39720" y="13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840" y="3049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Uni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9831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020560" y="304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Teache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533520" y="228600"/>
            <a:ext cx="3276360" cy="609480"/>
          </a:xfrm>
          <a:custGeom>
            <a:avLst/>
            <a:gdLst>
              <a:gd name="textAreaLeft" fmla="*/ 0 w 3276360"/>
              <a:gd name="textAreaRight" fmla="*/ 3276720 w 3276360"/>
              <a:gd name="textAreaTop" fmla="*/ 78840 h 609480"/>
              <a:gd name="textAreaBottom" fmla="*/ 530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4724280" y="228600"/>
            <a:ext cx="3276720" cy="609480"/>
          </a:xfrm>
          <a:custGeom>
            <a:avLst/>
            <a:gdLst>
              <a:gd name="textAreaLeft" fmla="*/ 0 w 3276720"/>
              <a:gd name="textAreaRight" fmla="*/ 3277080 w 3276720"/>
              <a:gd name="textAreaTop" fmla="*/ 78840 h 609480"/>
              <a:gd name="textAreaBottom" fmla="*/ 530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844848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9745-D058-4B6D-9970-5EFF4B7FC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2"/>
          <p:cNvSpPr txBox="1"/>
          <p:nvPr/>
        </p:nvSpPr>
        <p:spPr>
          <a:xfrm>
            <a:off x="609480" y="0"/>
            <a:ext cx="2565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Pla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3962520" y="533520"/>
            <a:ext cx="198108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553080" y="304920"/>
            <a:ext cx="19814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023360" y="555480"/>
            <a:ext cx="156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t Tit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ceptual Le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615000" y="555480"/>
            <a:ext cx="11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jec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de Lev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 Fr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(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036680" y="17319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it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125240" y="441180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33520" y="1143000"/>
            <a:ext cx="2819160" cy="1523880"/>
          </a:xfrm>
          <a:prstGeom prst="horizontalScroll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833400" y="137160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uring Understanding(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3255840" y="3133800"/>
            <a:ext cx="295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622440" y="2590920"/>
            <a:ext cx="2654280" cy="35812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6248520" y="1676520"/>
            <a:ext cx="2514600" cy="44956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292040" y="26668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6627960" y="17524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arning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>
            <a:off x="6049800" y="5092560"/>
            <a:ext cx="320760" cy="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3218040" y="2259000"/>
            <a:ext cx="3571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 flipH="1">
            <a:off x="1189080" y="2409840"/>
            <a:ext cx="3240" cy="37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629040" y="3808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3549600" y="1722600"/>
            <a:ext cx="2527200" cy="2579400"/>
          </a:xfrm>
          <a:custGeom>
            <a:avLst/>
            <a:gdLst>
              <a:gd name="textAreaLeft" fmla="*/ 123120 w 2527200"/>
              <a:gd name="textAreaRight" fmla="*/ 2404080 w 2527200"/>
              <a:gd name="textAreaTop" fmla="*/ 123120 h 2579400"/>
              <a:gd name="textAreaBottom" fmla="*/ 2456280 h 2579400"/>
            </a:gdLst>
            <a:ahLst/>
            <a:rect l="textAreaLeft" t="textAreaTop" r="textAreaRight" b="textAreaBottom"/>
            <a:pathLst>
              <a:path w="21600" h="22046">
                <a:moveTo>
                  <a:pt x="3600" y="0"/>
                </a:moveTo>
                <a:arcTo wR="3600" hR="3600" stAng="16200000" swAng="-5400000"/>
                <a:lnTo>
                  <a:pt x="0" y="18446"/>
                </a:lnTo>
                <a:arcTo wR="3600" hR="3600" stAng="10800000" swAng="-5400000"/>
                <a:lnTo>
                  <a:pt x="18000" y="2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3579840" y="4405320"/>
            <a:ext cx="2484360" cy="1776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046920" y="3132000"/>
            <a:ext cx="320400" cy="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C2C5-5F43-4438-ABA8-2C6EEF589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30640" y="927000"/>
            <a:ext cx="2819160" cy="266724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749640" y="936720"/>
            <a:ext cx="1887120" cy="34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essment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757440" y="83808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ional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514520" y="38480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erials/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30200" y="3825720"/>
            <a:ext cx="3975120" cy="266724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196680" y="38210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acher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246240" y="912960"/>
            <a:ext cx="2819160" cy="26668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9"/>
          <p:cNvSpPr txBox="1"/>
          <p:nvPr/>
        </p:nvSpPr>
        <p:spPr>
          <a:xfrm>
            <a:off x="635040" y="0"/>
            <a:ext cx="25398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Pla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631920" y="25560"/>
            <a:ext cx="2436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or_____________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6157800" y="936720"/>
            <a:ext cx="2819520" cy="26668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844880" y="3807000"/>
            <a:ext cx="3973680" cy="26668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648240" y="947880"/>
            <a:ext cx="21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ferentiation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307080" y="1066680"/>
            <a:ext cx="26830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Direct I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Interactive L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Inqui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KWL (Know, Wan  to Know, Learn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Question – All 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Think-Pair-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Whip Around (…the circle with respon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Note-T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Graphic-Organiz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Summary Reflection Stat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Reflective Discussion: Socratic Questionin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-end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Cooperativ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Independent Study/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Writing as Thinking: The I-Search Essa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med Paragraph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6387480" y="1279440"/>
            <a:ext cx="2507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Performance Ta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Forced Choice  (multiple choice, T/F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Open-end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Int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Ob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Peer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Metacognitive Response (reflecting up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wn  think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Self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3376440" y="1276200"/>
            <a:ext cx="23036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Multiple Intellig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perform in different modali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Peer Tu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Leveled “Big Idea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generaliz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Leveled Guiding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Differentiated Instructional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Differentiated Assess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lternative and leve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Extens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11BD-3A1D-4F43-8FDB-A9BDF6E50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Steps continued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ainstorm some of the 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enduring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understandings</a:t>
            </a:r>
            <a:r>
              <a:rPr b="1" i="1" lang="en-US" sz="1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generalizations/ essential  understandings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at you would expect students to derive from the stud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Generalizations answer the question, “So what? Why should 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rn these facts?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Generalizations go beyond the facts to the conceptual a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ansferable level of understanding. (This facilitates conceptu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nking and deep understanding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ainstorm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guiding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questions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facilitate the student’s study toward the essential, enduring understanding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Guiding Questions are factual and conceptual.  A unit may als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ve 1 or 2  provocative debate questions which have no righ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 wrong answer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3006-E64A-412C-85EA-F58967ABD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Steps continued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 Identify the 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specific knowledge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(critical topics and/or facts)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 and skill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that students must internaliz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tudents will “Know” and “Key skills [able to do]…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. Code the knowledge and skills with 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assessment codes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(AC)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to show the other evidence that is planned beyond the performance tasks. Include these assessments in the unit packe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9. Write 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ulminating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performance task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show the depth of learning. The performance tasks answer the question, “What do I want students to know, understand and be able to do as a result of this unit of study?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- Use the formula, “What,”” Why,” and “How” in writing to ensur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at the performance measures to the level of deep understand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the “Why”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0. Desig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 scoring guide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criteria and standard) to assess the performance task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- For each criteria assessed in a given mode, ask yourself, “What do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t look like?” at the standard level of performanc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DE2-4831-42B6-BC73-8AF2B56B3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Steps continued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Desig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ckw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performance task(s)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rit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rning experi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sure student success on the performance task(s). Design other learning experiences to address the other unit requirement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be abl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Design backwards, then move the Learning Experiences page prior to the Culminating Performance Task so you can t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ew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Identify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unit re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nclude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teacher no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ssist planning an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on P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ges can be used to break down the unit plan into more manageable segments for instruction. The lesson plan may cover 3 to 5 day segments. A computer “cut and paste” method should work with some fleshing out of questions and Learning Experienc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88C9-848B-4411-9C08-344091D9D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0920" y="685800"/>
            <a:ext cx="354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t Title: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ceptual Lens: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1295280" y="2514600"/>
            <a:ext cx="27432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9560" y="6149880"/>
            <a:ext cx="44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gner(s):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8160" y="25909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255120" y="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Content/Concept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5638680" y="1905120"/>
            <a:ext cx="2971800" cy="396216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962160"/>
              <a:gd name="textAreaBottom" fmla="*/ 3817080 h 3962160"/>
            </a:gdLst>
            <a:ahLst/>
            <a:rect l="textAreaLeft" t="textAreaTop" r="textAreaRight" b="textAreaBottom"/>
            <a:pathLst>
              <a:path w="21600" h="28797">
                <a:moveTo>
                  <a:pt x="3600" y="0"/>
                </a:moveTo>
                <a:arcTo wR="3600" hR="3600" stAng="16200000" swAng="-5400000"/>
                <a:lnTo>
                  <a:pt x="0" y="25197"/>
                </a:lnTo>
                <a:arcTo wR="3600" hR="3600" stAng="10800000" swAng="-5400000"/>
                <a:lnTo>
                  <a:pt x="18000" y="28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095520" y="204948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533520" y="304920"/>
            <a:ext cx="2819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t Planne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717520" y="61722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de Level: 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B39-6414-4F3D-877E-1F520B378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220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uring Understandin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Guiding Ques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generaliz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-150840" y="914400"/>
            <a:ext cx="71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573800" y="923760"/>
            <a:ext cx="409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228600" y="0"/>
            <a:ext cx="3200400" cy="6858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800600" y="0"/>
            <a:ext cx="3200400" cy="6858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906800" y="74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8836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36576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733920" y="3808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6443-41B7-456C-888A-4E0F22922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36440" y="1652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ritical Content and Ski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20920" y="8222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will know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4000" y="3657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y skill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33520" y="838080"/>
            <a:ext cx="8305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33520" y="3581280"/>
            <a:ext cx="8305560" cy="2667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8305920" y="8380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8384040" y="8380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421160" y="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 = Assessment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172200" y="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Quizz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m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Te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Work Sample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Dialo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tudent Self-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85800" y="1295280"/>
            <a:ext cx="7332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85800" y="4191120"/>
            <a:ext cx="746748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380880" y="0"/>
            <a:ext cx="3657600" cy="762120"/>
          </a:xfrm>
          <a:custGeom>
            <a:avLst/>
            <a:gdLst>
              <a:gd name="textAreaLeft" fmla="*/ 0 w 3657600"/>
              <a:gd name="textAreaRight" fmla="*/ 3657960 w 36576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3341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8305920" y="35812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8370000" y="35924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846432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4191120" y="8380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4751280" y="8668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4210560" y="8938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4195800" y="3598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4780080" y="360036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236120" y="36133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3581280" y="3581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7620120" y="9144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7620120" y="3581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3581280" y="838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3582720" y="83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697520" y="7621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3582720" y="35053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7621560" y="3581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605160" y="6265800"/>
            <a:ext cx="61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No correlation needed between the Know and Key Skills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0941-2FD5-427A-9324-010B8115D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435680" y="1494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sk Pl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63560" y="762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63200" y="1676520"/>
            <a:ext cx="49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:  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in order to understand tha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6280" y="281952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: (Engaging Scenario-Perform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2362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76880" y="7621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Investiga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04840" y="703440"/>
            <a:ext cx="8686800" cy="5638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846108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47720" y="185760"/>
            <a:ext cx="11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B068-7E23-44D2-97ED-14F2DFA32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732600" y="38592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to be used for evalu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33400" y="12114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24280" y="1243080"/>
            <a:ext cx="302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1200" y="16668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p 3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sk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06440" y="936720"/>
            <a:ext cx="8305920" cy="541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44848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19:55Z</dcterms:created>
  <dc:creator>H. Lynn Erickson</dc:creator>
  <dc:description/>
  <dc:language>en-US</dc:language>
  <cp:lastModifiedBy>jmcinnis</cp:lastModifiedBy>
  <dcterms:modified xsi:type="dcterms:W3CDTF">2008-06-11T14:39:02Z</dcterms:modified>
  <cp:revision>1</cp:revision>
  <dc:subject/>
  <dc:title>Steps for Designing an Interdisciplinary, Integrated Unit of Study...</dc:title>
</cp:coreProperties>
</file>